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28F-F5EE-48A6-A85F-EB17C5F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78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416480"/>
            <a:ext cx="8278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D47-061C-4A48-A801-764446A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216072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41648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1648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C4E-2D20-4E99-8E8D-1CCF867D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2665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2160720"/>
            <a:ext cx="2665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2160720"/>
            <a:ext cx="2665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416480"/>
            <a:ext cx="2665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416480"/>
            <a:ext cx="2665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416480"/>
            <a:ext cx="2665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369-E166-466F-BE5B-A61C7408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2160720"/>
            <a:ext cx="8278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AD3-09E9-4344-8382-9752F86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78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9D7-8DBF-4930-9668-35EF2AC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4039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2160720"/>
            <a:ext cx="4039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C06-889D-46A6-A52C-86FA81F7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BDB-3D5B-4AF9-A511-2AAE8EDE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360" y="717480"/>
            <a:ext cx="83502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FFD-E962-40BD-AFCE-482E79C5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2160720"/>
            <a:ext cx="4039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41648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D09-2910-4D73-B842-97F5941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4039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216072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1648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628-1A84-41C1-BD77-A82D0DD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2160720"/>
            <a:ext cx="4039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416480"/>
            <a:ext cx="82789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210-33E2-47C0-B221-99BCD562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2160720"/>
            <a:ext cx="8278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4AFD0-151C-45D1-A52B-41A6B6817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717480"/>
            <a:ext cx="835164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on Queueing System Implemented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dam D. Corn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8360" y="763560"/>
            <a:ext cx="83516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Queueing The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8036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athematical study of waiting in lines or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9760" y="34196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8360" y="723600"/>
            <a:ext cx="8351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Analysis of Related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8036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ing at the back of th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in th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ing served by the server when at the front of th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360" y="723600"/>
            <a:ext cx="8351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Calculations of Performanc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8036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aiting time in th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number of waiting or receiv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n available server or having to wait a certa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8360" y="720720"/>
            <a:ext cx="835164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the Above Mentioned Queue and the Python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9640" y="2700360"/>
            <a:ext cx="82803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on Queue there is no line to wait in, meaning the person leaves for a random time then checks back to be se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ed value and retrial rate are randomly generated each time the queue is 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8360" y="763560"/>
            <a:ext cx="83516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dded to th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8036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uns are now allowed, just update the variable 'numberOfTrials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'rrate' is no longer hard coded, it is now random each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ed value is no longer hard coded it is random for each r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8360" y="763560"/>
            <a:ext cx="83516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2160720"/>
            <a:ext cx="828036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trials took 38mins 19s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verage each trial was 4.598s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46:37Z</dcterms:created>
  <dc:creator>Adam Cornett</dc:creator>
  <dc:description/>
  <dc:language>en-US</dc:language>
  <cp:lastModifiedBy>Adam Cornett</cp:lastModifiedBy>
  <dcterms:modified xsi:type="dcterms:W3CDTF">2010-04-20T16:56:11Z</dcterms:modified>
  <cp:revision>6</cp:revision>
  <dc:subject/>
  <dc:title>Keyboard</dc:title>
</cp:coreProperties>
</file>